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C320-FF6D-4B60-9071-C7DA96CC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CB28-2C89-4D33-82F8-F59499BC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66680-5EB7-4920-961B-014F2EC0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7005D4-DDAC-4F5F-95D3-73D2C15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D53B4-93FB-4ED4-B746-D1AA715C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F5B0A1-FBFC-459D-8D16-723D408D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DC2C0-1FA3-4608-8A40-5AD5CB80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42023-4541-428A-B235-F5807AD1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6BA3A-4670-4D13-8513-F394A503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99264-320A-4E39-B4C0-1888A273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61F1F-92C6-4D36-98B7-4A54D4D98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AA5A0A-6CB4-49E8-BA1F-465A80E1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AF16-784A-489D-913F-DEF75FCE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9D61BD-50D2-4558-A99A-A55E6D73D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5F40AA-875C-4FA1-BCEB-D9BA0F2A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6053D0-2500-4FA0-A809-431E7737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CD989-3981-48F2-B839-80697486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870FC-E9F2-46A5-91D5-1A651381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BE735B-B78D-4DC4-8843-70413E3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453DB-8701-49B3-AE58-7B97448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12FFD-8C0F-416D-9DF3-F8ED78C7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8D626-CA68-499D-85EF-CEC093DF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B9663-0558-49DA-8C12-6FDF25BD8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7190-B913-46CC-AEB2-22505506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0CD47C-0466-414F-BE57-2E2D62BF3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27895-7286-4E17-9DB9-82C2C8B6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4384A-E77F-41A9-9DCB-6FB4F66F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F94A6C-E288-421B-B287-BF39C4F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FF9A9F-E9F6-432B-87A5-449FC560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1883D9-B199-44DD-B4D8-EB195D65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A4BF7B-3E90-4689-98B6-8AA51EC0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C0FFB-7B2C-48C9-8ABA-2ABF991B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75894-20F1-4DF6-8B9F-BA0DF120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4EB45-3D80-4742-81D0-DC480A19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BD11-8676-4127-90E0-63F480230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C3DA9-95C4-4E79-9F4C-88D20320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0700F-7313-45E3-8EB3-0AF947FC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B1D327-7A31-446C-BA6A-B04AACD8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63F8-D2AF-4273-87C6-05A1ABE3C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FE407-8A63-4843-92B1-FF3097CE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BD222E-B23B-44A9-A11B-CC2D6EE1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DA666-A1E4-45B7-97A1-746EB4B4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2785B-685A-4CBB-92F6-FBF7EB95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9D7B1-1837-480C-8ECA-DBD8CCDF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3E95A-CF6A-4AB6-B4C4-A5E43B773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8F0-EEED-42EE-BCCE-2B2F6AF9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982A0-9BC9-4BD8-9784-11A34691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A61044-18C3-4AB1-8111-6BE5875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62314-DEA5-4C52-AD90-84F32CF1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DE670-F695-46C0-A28F-BF34C3BF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DDD92-9DC3-4ED7-B8C7-D02CF07F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CE711F-FD48-4D1A-9985-9A00EC75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890B7-E0EE-4239-A41A-F120F93A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BEFE2B-D155-4479-B2E7-8F015B7A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8A290-D19E-47D8-8D39-262DC569A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88E2FE-6671-4907-847D-39AE7955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11D1D-E983-4169-9D3A-C27AF5BF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DB499F-E4EB-439C-9FC9-1C0F1F29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50DDEB-6B5E-4FA0-88E8-622C3374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DF49B-5CC9-4D20-9EFD-9F50D980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623042-8118-4939-A83D-8D4C14EC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B75D1-1CBA-4DF3-B2AD-7E8BC529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8BBB5-F496-4FA9-8590-72C2D6B1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2F6F6-895F-4A49-8320-93D9C8F1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B3173-2A5A-43C8-8CB2-A4504670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92EAEB-803A-4C0E-9056-BCD2BD3C2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E7FC62-D9A8-4A11-8D3D-66EF87E2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A864-EA73-4BC2-9542-CF5CE2C4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7348A-C566-4A93-8DC9-EB33F3F0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B4CD37-ADD3-4B39-933A-1803EAC5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CE305-2268-4D4F-9151-767B88D38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4E8E0-3460-44D7-B10D-9B6C4871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8E7E37-99EC-4F43-8C32-7EB519C7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221453-1441-4165-99C7-D7B667B6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BF87B9-4159-4A47-9377-F3847A09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F97F8-FCD6-40F1-8D6B-53861C21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C1F75D-F57D-4865-B7A8-87B96F1A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AF939F-2919-405F-92A2-38200A101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671C-4F76-4A1F-9FDA-B427B30A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47094A-DC4C-48F3-B08B-3CCCC495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D3FEE4-C5EF-4434-8B72-0868E43F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5600A8-021D-4A45-96E8-6566D927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B0CDD9-289D-4251-A5BA-40F008B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EA2C1-749A-4683-9957-F935A242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B49E11-E5E0-4910-A68F-F327F90C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8C1F5-6811-4000-BAA2-313C6DAF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0FF789-55E7-4CD5-8918-AAE65CDA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7AF60-A7E3-4402-978D-4A7EDE13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41740C-4E0D-41E2-AAC4-873054F2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0DE5-4FF7-4294-82B3-06060D7C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050EC1-0B7F-44EA-979C-37D945FB8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39FA0-D64E-4C61-AA8E-875417F7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453E1-D73E-412B-BC98-2D50551DB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85D9B-BC63-4493-B86F-B392D99B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2F6ADB-A861-4CAD-AF82-D57BE922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193E4D-7276-46BD-971B-1B607890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4F6857-40D6-4746-9F1B-2D1B1C8B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C373ED-441F-4C2E-9C42-2E643EE7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D1E2BE-6B01-4D41-8481-65453D7A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8C269-5DB8-48FB-A3A6-D6629F4D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0904-5453-410F-8AC5-7DDE4F73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2E196A-1DB8-4436-89B6-B36D9F19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CC48B-B94F-40AD-8454-468DFBC4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6E8E6-F07B-4990-A0E1-94F00F2B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85347C-3FD4-4343-926E-E4866F0B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98787B-D9F0-4FD7-B1BF-0EB2D48A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856594-04F7-4A24-9967-CD953AA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3C4E84-6145-493C-A68B-DA437F2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7CE5E-CFC0-4A40-8802-A601C3A3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59614-D4FD-4DF9-B51D-6F7C21FA4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A6AAAC-9E84-417A-94A7-B60A6289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AD7-0DA2-4989-85F1-F69CD177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9EBC-9F70-444F-8692-F3E7E878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9FE261-BF31-4B0C-BAEE-96A7B13E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BE3566-FD52-4816-BDF1-D7196D0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262B2-19FF-4B87-B46D-82AC0E76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801FD4-133F-44B1-8070-12C312595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CB01F-9719-402B-813C-8986D1012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A7E1C9-7A6A-4F1C-A839-365B1C70F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6A37F-E953-4F3E-AE86-1B99F21A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BA5076-FB32-4A5E-B15C-D622BE83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07910-3F21-4F62-A3CC-DD2C2518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30FC40-EDB1-48C6-8CD9-A4E91B50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7E3A-6A2B-4730-9554-9539503F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A003CE-F658-4021-B04E-FB2AC60F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4F2BCE-45DF-481F-AE7A-D13CB2AB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2A953B-6FF5-47A7-8E20-F8430239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A3618-00AD-4781-80EF-A4852452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46B3C-05AC-4F5A-8D26-3ACDAA83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78D43E-C366-4FBF-8AAB-1C4E4627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CDB3B-7333-4D82-BE0D-C8296AEA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A6DC5E-F082-4C6B-8FE4-ED7691A8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8CD7A-3FCF-4680-8C46-39D878A3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FC56D-3A17-411A-934A-5D5C24F4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0979-1493-45E4-B08B-873EF18C7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6FEE1B-4474-4987-9E46-BB41E51B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C0C0C6-B094-4420-876A-1DBB2F8B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C32FEC-8A4A-40D5-88E5-19BBBA8C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C319E4-6439-4F04-882E-0BFA1184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21898D-F00D-48EA-B459-BA23D759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66B4CD-B549-4041-83BE-F332227E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53AD7-BBF9-4AB6-9654-21C62961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598919-35B0-49BC-B294-CF1EEF48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D63751-AA94-4D35-B830-8BEAF39E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5B5442-DDA4-4230-A719-6153A933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787E-6743-493D-916A-2EE29EBD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5629C-17AC-4DDE-A327-6640E526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4ED1AB-C9E7-41FA-977E-59E09252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4F9E5-8E85-4E3E-B81D-83266301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AF609-9D74-45FE-9824-A6D1CF95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779D7-F4D5-40F8-B2C0-E629846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344E6E-BA22-41E6-BD19-CA8233D6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007AA6-6451-411A-9DDB-69604DB9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44E0D8-D2D5-465F-9274-5C8BB4E5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8827B7-3575-4BF6-9A9A-896FE28BA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79EF01-8987-44B8-B0EA-04541DC15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BF49-64D5-436F-ACB6-6ADC84D24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C3B20-A392-409C-9347-2F9868D16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2020CF-D6C3-44D2-909B-50AA9BAF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4D90AE-5ADC-4D1D-8745-F7AEE229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2892B1-8BD2-430D-9A82-7965F19F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A71FC-255F-4089-97AB-0F7587EF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B8DFE3-DE2F-4B7D-988E-12D0450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A2D09F-7754-40AE-8D82-79B5A7A8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C973D-62D3-4AEB-AD6E-62B94936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3E9450-D56D-4EBE-972A-2561B39D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AC4B0-9CD6-4137-92A7-F67C2A98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8C8C-4D32-48BA-B7C0-1111C78FD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9EEDAA-914F-48EB-AAFE-ED12D189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1FB58-5AA9-4132-BB51-3F3F3F43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A530BE-9B96-4EE1-91AD-C3C49EF4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51F0-5D64-4D95-81F9-AFBF8D99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EFD77-FA60-4A3B-8E71-4A0BC39C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8F829-CE36-40F9-97FC-A79FB0AF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AE86E-EDFF-472A-964C-90EE1EB4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1F1-2181-4360-BE4E-EF8F0750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DDBD-4F9F-49EC-B895-606206CA3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E7C04-2FDE-4BAF-AD10-AA3E4618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E8536-829F-4C6A-A075-396228C4C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BAEE9-5D92-4C9F-9920-D9325005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9777B-5664-41BC-953F-144B323B9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80CFB-E8AF-437B-B168-5B5257B6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1CF0-F024-44EC-BB0E-3FAAAA10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E63E5-1E02-4C7A-B0CF-C1E79E1E3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A2F70-C4D4-49AB-A12A-DDBB4960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DF02B-C4AA-481F-AB90-FE81A9E0F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9E0-6CE2-464D-9229-F28BAE6D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4F22A-A987-493C-9C91-BF3FF7E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EEA0-E62F-4F10-8095-CA2A3315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587BA-6561-4332-8B3F-51E8C0C6F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B17DF-8301-424F-88DA-B7913DE9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017E-8BE2-435E-92D3-1D405CB2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D7FD1-03DA-44D2-8331-3718A8D1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645D8-7559-4958-8614-AD13F8F0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70B0-9739-42A2-A380-1984873E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AE7B9-C72C-4E45-91C8-55072B18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80C32-B2E5-4729-96E4-0262903D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62F-8D85-4D8A-96E2-CB7998BF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FA41-9556-4C75-9918-0F11176F0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D7FBD-5177-40E3-9085-C4E9F6EB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4CB6E-51EF-4ACD-9E43-588E167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F403E-E1DC-49C1-8761-F4C97E6B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ACB06-360D-4F02-A8F4-0937DB4B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D57DC-C352-4060-BAD2-5AEEAF6F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6B43C6-A602-4106-8A2F-49CECF39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DCCAB-D732-4FED-843D-61B4F523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2956A-5BDC-4B17-B99A-86F5338B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DB2ED-1178-4A69-B569-CB8BDC4D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0AC1-E296-40DE-B8AE-F3189510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73AB5-97A2-4A65-94F1-99542E6A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37AD0-48F3-4324-9944-8B990806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AA84F-E337-4400-A79A-4BD32BF2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547AB-2A00-4E8F-8FAD-B50696DB5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8495B-1DE1-41D8-84E3-D2AB61DF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520D-4605-4A16-8314-51B70B39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8E227-82C9-4722-95D1-73084BF5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1B590-0F46-4B77-BCA0-4F40BD692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E466B-D17A-4234-81DB-35C88937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4843-C501-47AE-A838-47E3B6F4D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061-F031-4B9E-B46C-376CF7D9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EAF549-B62B-49BE-9E7A-8466C5F1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20130F-B97A-4404-8DF1-365E3F082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C1928-5965-41ED-B5B5-E2C50754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ADCE9-A286-4437-8C21-72AD44591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28749-CD43-4078-B482-78566108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46554-1901-40F3-BD44-91938E51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7A48C1-C988-44EA-B974-2F9943E6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F094E-2AB9-4CAF-96A3-08ED2C74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7E169-D7FF-4B1A-8ACA-6464FEA6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6B8FF-0324-4EF8-8092-300605EC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F97-2469-453B-A305-F7639C5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F3A7F-11E8-4B2D-BCFE-D2A67DB8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1E2A2E-D456-4B24-B755-DE1D4D90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4992-51E1-45BE-9697-BA1E7F7A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C51EA-8C1E-4850-A35A-928F0B77F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9125D1-D34C-49B7-B6EF-F2DBD7714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28E95-36D4-4924-9F9C-C4471AB8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D6489-2044-4D00-9A28-3E29F5AE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EDA57-2D18-4239-A8BC-89372127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9ECEF-5130-40AE-B3BF-D7EDB204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5C211-81E1-4D4F-B20E-3231CEE3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89A9-EE82-4C15-973D-406D335F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CD8ED-C599-46C4-A374-399605F2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E6239-C0BC-48D9-839F-CAC4A7C4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68307-A7F9-4751-B45E-EB535EBC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4FD4-04B7-423B-A6E4-3671A0ED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00056-E06D-4B67-A22C-E8185C4C1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6D5A81-94C7-4B84-A136-45485964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2FDE1F-5BE4-4399-909E-336964EC4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E1EF00-5176-43B8-9880-98BF02D6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882C2-0425-4FC8-9583-4DE73144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136268-3938-4326-8D5D-E2C1EAA9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830-B9A1-47AA-9625-4A6747A62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31C3-0087-4422-A8C9-EDA8504A6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0D67-1B6C-4AE5-BF1C-7B36BA3F9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2A91-953C-42B6-9D3D-45DD2FFD3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F687-26D5-4034-BEE1-DA8970921F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699-4608-4F2C-8F61-E932156CFB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F75-E7B7-4402-92AA-93CF01E7D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C63C-99C9-44BB-99B1-D28BE899D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DB5-6C0E-4744-A1BB-3EABC0F644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AAB5-BC5A-4F92-B951-4F0D3C0900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EB17-DD21-4AE1-9F51-16E1CA144E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282-A42A-4EEC-B4F8-A1C5757BE8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ABDA-AB17-414F-B610-2B6C5FD61F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EEBD-06AC-465F-8F03-CED287042D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1AF3-30F9-4FA1-BF08-1C076FEB20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7146-461A-4773-9F5C-4F982E3B63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A094-6059-4B32-B7EE-84DA291F31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06B3-058B-4423-B663-CBEA528DE5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640F-82EC-4B9C-A28B-D068A0CFE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4C351-490B-437B-B616-D769E3B2A6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F620-4DEF-4FFD-911E-921E9DE91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88DA-2FB7-4528-ACB7-8840C33A10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5783-1DD9-495E-9F32-981FABA6B1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67AF-BE50-4C99-8BCF-A4524690006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ADFF-F0F3-4308-B975-537295838D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5BB4-58BE-42F7-BF35-DD7443CBF6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534-22B6-455D-B3C8-B445CF946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18ED-41A9-4DD7-A15D-1CBF7BAFB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F500-4BF8-4987-8856-65B8E3D1C0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E389-D7CB-4940-8489-E21DA78FFA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F2DEF-145D-472A-980B-8C80E01DD1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E4AC-EB8D-4DED-AA35-046685DD21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94FF-704D-43CE-A538-17C4B870FD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4ECA-D2D8-4348-A48A-D64AB9AED1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08B-94BF-4868-9F1E-263CEB2B9D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C82F-DC36-4585-A0C4-B737BFACCE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2B45-4FFB-45FD-B1CB-3CA9A08FA5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1EE15-00ED-4975-87C5-1F303EDE6C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D92B-18A1-4B23-B8B3-CD9D74239E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0A5A-5977-4C43-A76A-A733B97F0F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14760" y="3090960"/>
            <a:ext cx="371448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81000" y="2252520"/>
            <a:ext cx="8980560" cy="235296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547640" y="38037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3780000" y="38037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5724360" y="38037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8101080" y="38037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403280" y="41925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8"/>
          <a:stretch/>
        </p:blipFill>
        <p:spPr>
          <a:xfrm>
            <a:off x="3751200" y="4206960"/>
            <a:ext cx="720720" cy="30168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9"/>
          <a:stretch/>
        </p:blipFill>
        <p:spPr>
          <a:xfrm>
            <a:off x="5867280" y="4206960"/>
            <a:ext cx="1225800" cy="30168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0"/>
          <a:stretch/>
        </p:blipFill>
        <p:spPr>
          <a:xfrm>
            <a:off x="8056440" y="4192560"/>
            <a:ext cx="72072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9" name="图片 2" descr=""/>
          <p:cNvPicPr/>
          <p:nvPr/>
        </p:nvPicPr>
        <p:blipFill>
          <a:blip r:embed="rId1"/>
          <a:stretch/>
        </p:blipFill>
        <p:spPr>
          <a:xfrm>
            <a:off x="385920" y="1695600"/>
            <a:ext cx="8370720" cy="346680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3"/>
          <a:stretch/>
        </p:blipFill>
        <p:spPr>
          <a:xfrm>
            <a:off x="1116000" y="3227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4"/>
          <a:stretch/>
        </p:blipFill>
        <p:spPr>
          <a:xfrm>
            <a:off x="1116000" y="36162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5"/>
          <a:stretch/>
        </p:blipFill>
        <p:spPr>
          <a:xfrm>
            <a:off x="1116000" y="40194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6"/>
          <a:stretch/>
        </p:blipFill>
        <p:spPr>
          <a:xfrm>
            <a:off x="1116000" y="4437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7"/>
          <a:stretch/>
        </p:blipFill>
        <p:spPr>
          <a:xfrm>
            <a:off x="1116000" y="4826160"/>
            <a:ext cx="360360" cy="32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8" name="图片 1" descr=""/>
          <p:cNvPicPr/>
          <p:nvPr/>
        </p:nvPicPr>
        <p:blipFill>
          <a:blip r:embed="rId1"/>
          <a:stretch/>
        </p:blipFill>
        <p:spPr>
          <a:xfrm>
            <a:off x="1857240" y="909720"/>
            <a:ext cx="54295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119160" y="2762280"/>
            <a:ext cx="8904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04:59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